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85E49-7DD7-4AD4-9CC6-A4646F081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66FB1-D10C-49D8-949D-8860AD0A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27C8-E8D3-413B-9C5F-753D7849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F17AC-0318-4035-BE21-D7895518C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C1CCAD-F204-4BD4-9784-A4C0C628A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4DB0F5-E61C-4CCD-95E7-ECAA014BB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41D29C-CA0A-4039-943B-7096629D7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7540F9-08DA-462B-9D82-B4BFE5CE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203EA9-34B1-42E4-B453-E49BC6683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1200CE-8B92-40CE-9BE2-4BFA56241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838590-8B09-4724-AE87-A218547EA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ECFF-405F-41EB-857D-9B92B4D9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B04AD3-5BAD-4A59-8EBD-4AAECA784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17FE35-660B-42AA-A23C-1F8833564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CCE5B2-54F8-42BD-B54C-47FCE7E84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A2DDCC-9942-41DB-8A37-63F269A33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41D970-8AA0-4EB9-91F2-3ACD4BEB7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34F9-2336-484C-946F-D0C066284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9D21-936E-446E-9881-669FCC622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6D2E7-0C07-4B42-AEDE-D32273C6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0748-7D9E-4175-A52E-604985855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6741-41CA-4F01-BBA4-F58A4262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5F0E-5688-4040-B437-CE1081CE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D19B-5958-4CAE-85FB-4585D363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4773-7DFE-4663-B311-E49821DE145C}"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D918-9FD2-4B8A-B3B1-BDC0E4BBA1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1F3C-CA77-491E-B62A-FE11A7751968}" type="datetime">
              <a:rPr b="0" lang="ar-SA" sz="1200" spc="-1" strike="noStrike">
                <a:solidFill>
                  <a:srgbClr val="ffffff"/>
                </a:solidFill>
                <a:latin typeface="Times New Roman"/>
              </a:rPr>
              <a:t>١٤٤٨/٠٢/١٧</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B29B-566F-4212-BBC4-C87140E3B2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771879BC-7D4F-4B12-8303-DE541DBF8A55}"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E34878-E56A-4D98-887D-B53E7D088E53}"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F4EE76-F16A-41CA-861D-FE615C0D28FF}"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B0F4BE8-C874-497E-A2B4-4A4CFDE9645B}"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F999B52-6D59-43AD-97BA-1055E62CE260}"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C8A6A76-080E-4AFB-AE98-CB21A8EE7470}"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4C6F747-02BC-4187-B448-B142E695FBF0}"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4EB8A68-3CB5-49A4-8055-868A7DCB9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64744EBD-3DE3-41B4-B1A7-73602DF91BD7}"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00251EF2-DF99-4E20-848A-6B39B3826EC5}"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3764C90A-DBAD-4610-9DB0-BB33A71DFBEF}"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9B7B6AE4-4DAA-4654-A3F2-AEBCD390F7DE}"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AE4A086-CC70-4F70-8DE7-DB23421C73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EDFCB14-2348-40F8-A2F9-E71E6C912D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AA05479-B45E-4E47-8CAE-6B9F4DD6F35C}"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B654F622-D8C8-4ACF-8566-3024A16A8B9B}"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48214D9B-07FE-422A-B33F-7BE10B14EAEC}"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489DC39B-821B-4E10-A885-A8B3A2C39F3F}"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BB2AB45-0B94-417F-AA75-03D935C5BD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9B45C2-299D-47A5-B708-CCDD4D031B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C2B32A-6948-492D-B3DE-ACC6B402A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0B51F28-59C8-411F-9D39-8F9B232F85A2}"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9481BE-6F59-4A31-BEB3-8BE63BF2F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702C9A-41B8-4E5A-BACF-E3D1B27CDD6B}"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BCFDCF62-01EC-40F6-90EF-71A75A62A2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